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E7B7-18BD-4A47-B478-39A570B8B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EC48-243F-47BD-950B-548F85B1A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D38-73C5-4588-A5BC-C69886E7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7F9C-D234-4401-94CB-780FB720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BE71-9DA2-4916-BE26-A7E2390F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3C04-3DF1-40B8-94D2-6C65165A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E3A6-0C34-43E2-819B-F8027352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0987-C321-4708-AFD6-DCAF96B4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CA87-56A1-4D51-B371-32EB75E3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DF98-1744-4918-8DB3-948E74FD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E4BD-53E2-42F1-9036-4BF4AD0E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3500-4F63-4E80-BBAE-63F5456F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E070-7778-4A5A-986F-6DE5C3A7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522-555F-4401-A3EE-238A3A08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C833-FC96-4B88-B184-B8AFE554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CD05-DD40-40FC-BA58-E478A738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2C80-DCAD-488B-AAE8-2F8A9BE1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84EC-08FA-411B-A974-DBA149D5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5C13-818F-47A3-AD30-825F82B4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CFE-8FF7-4892-A121-0A153B48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211-67AA-4C58-877B-7FE5D0AE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600-7A45-43D6-A4D0-70B932DE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2B8-F535-420B-86D9-B3DD920E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8FC0-2CCE-4224-832A-03D44FD6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9816-63EE-4252-AF7F-FC9B6345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A960-8B90-4DF4-883D-2101374B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37BB-E8DF-4173-898D-4F374CD0D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63B4-214D-4500-B842-98373595E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336666"/>
                </a:solidFill>
                <a:latin typeface="Arial Black"/>
              </a:rPr>
              <a:t>DISTRICT     AGRICULTURE DEVELOPMENT OFFICES IN MALAWI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120" y="3580920"/>
            <a:ext cx="5410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300" spc="-1" strike="noStrike">
                <a:solidFill>
                  <a:srgbClr val="000000"/>
                </a:solidFill>
                <a:latin typeface="Arial"/>
              </a:rPr>
              <a:t>CHALLENGES IN INTENSIFICATION OF AGRICULTURAL ACTIVITI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CHALLENG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Inadequate staff at field leve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Erratic rainfal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Dwindling soil fertilit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Inadequate financial resources to implement field activit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WAY FORWAR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lead farmer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drought tolerant intervention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cropping systems that help to increase soil fertilit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Encourage harmonization of programmes and resources to best implement  agric. Activit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ZIKOM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taffing Posi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905120"/>
          <a:ext cx="7620120" cy="1993680"/>
        </p:xfrm>
        <a:graphic>
          <a:graphicData uri="http://schemas.openxmlformats.org/drawingml/2006/table">
            <a:tbl>
              <a:tblPr/>
              <a:tblGrid>
                <a:gridCol w="1447920"/>
                <a:gridCol w="1295280"/>
                <a:gridCol w="1636560"/>
                <a:gridCol w="1621080"/>
                <a:gridCol w="1619280"/>
              </a:tblGrid>
              <a:tr h="429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AC.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CH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Object 27"/>
          <p:cNvGraphicFramePr/>
          <p:nvPr/>
        </p:nvGraphicFramePr>
        <p:xfrm>
          <a:off x="3352680" y="7162920"/>
          <a:ext cx="5186520" cy="7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7162920"/>
                    <a:ext cx="5186520" cy="7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336666"/>
                </a:solidFill>
                <a:latin typeface="Arial Black"/>
              </a:rPr>
              <a:t>RAINFALL VARIABILITY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fall pattern is erratic in some parts of the distri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the mean rainfall for the districts in 2011/12 w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ny days compar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ny days last year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rly planted crops (mainly maize and legumes), face great damage and full recovery is almost im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Rainfall cont’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4" name="Content Placeholder 5" descr=""/>
          <p:cNvPicPr/>
          <p:nvPr/>
        </p:nvPicPr>
        <p:blipFill>
          <a:blip r:embed="rId1"/>
          <a:stretch/>
        </p:blipFill>
        <p:spPr>
          <a:xfrm>
            <a:off x="755640" y="1901880"/>
            <a:ext cx="77119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Effects of Weather (rainfall) on Crop, Livestock   &amp; Fish Development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crop germination and emergence causing continued replanting/gap fil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crop/pasture establishment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fertilizer utilization and very difficult to achieve timely fertilize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big differences in crop stages within or among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difficult to achieve timely planting/transplanting and herbicides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rying up of p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ood Situation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, the food situation for the districts is at around 9% (farm families without own food) compared to almost 1% same time last year (fig. 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od is available in most mar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ood Situation con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0" name="Content Placeholder 5" descr=""/>
          <p:cNvPicPr/>
          <p:nvPr/>
        </p:nvPicPr>
        <p:blipFill>
          <a:blip r:embed="rId1"/>
          <a:stretch/>
        </p:blipFill>
        <p:spPr>
          <a:xfrm>
            <a:off x="755640" y="1901880"/>
            <a:ext cx="77119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66"/>
                </a:solidFill>
                <a:latin typeface="Arial Black"/>
              </a:rPr>
              <a:t>Coping Mechanisms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insecure households are surviving through the following me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 casual labour in exchange for food or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ing charcoal and fire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of other commodities like mats, vegetable and fr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pots and baskets with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duction figur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62120" y="16761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ize production has decreased by 12% from 175,000MT in 2010/11 season to 153,000MT in 2011/12 seaso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ry spells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w soil fertility as a result of low input uptake.( FISP+ other soil fertility interventions to sustain soil productivi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1:02:08Z</dcterms:created>
  <dc:creator>Malon</dc:creator>
  <dc:description/>
  <dc:language>en-US</dc:language>
  <cp:lastModifiedBy>Admin</cp:lastModifiedBy>
  <dcterms:modified xsi:type="dcterms:W3CDTF">2012-10-02T16:40:55Z</dcterms:modified>
  <cp:revision>147</cp:revision>
  <dc:subject/>
  <dc:title>NTCHEU DISTRICT     AGRICULTURE DEVELOPMENT OFFICE</dc:title>
</cp:coreProperties>
</file>